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C942-C4BE-4F2B-8557-B2D6E29B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46D2-2D27-45BE-A26E-89EEA894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611-DBC8-4FB5-95C7-ECDECBE4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0A79-A0F5-4D85-A282-266C1161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B5FC-1893-4F23-BC34-142CE2A9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17B-D824-4A31-8827-57BE542C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B1BC-FB1E-459D-9DC0-17AF3962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D0A2-0A9D-40C6-B856-76F67006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14F2-9B50-445C-95ED-1E2C3381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9D4E-7FFC-43BB-9B0A-812D8BC5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585C-3F4F-4476-985D-EE576346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DE1-26D9-4164-8B2F-00DE25A0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B857-D91F-4D8C-A2F1-B109DC21B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Sample Size for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R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3124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01080" y="776160"/>
            <a:ext cx="63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view about Sample Size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924680" cy="2743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40600" y="1219320"/>
            <a:ext cx="29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view (cont’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696440" cy="2666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5480" y="1143000"/>
            <a:ext cx="25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ic 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848360" cy="403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6560" y="914400"/>
            <a:ext cx="38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ic Principles (cont’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5257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838224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4T01:18:47Z</dcterms:modified>
  <cp:revision>42</cp:revision>
  <dc:subject/>
  <dc:title>PowerPoint Presentation</dc:title>
</cp:coreProperties>
</file>